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93E23-3A3F-4932-BC78-96CC56C1DC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41592-D751-41F4-9703-D8669A47F8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7A4AF-43DB-487D-9772-78FB5C590D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AD9A2-EA01-4BBE-B482-9F2C2A88E2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F71AD-5B14-4529-89E1-9B9D3D3D6C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C1D16-C6FA-428A-A32D-4B8698DBA2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A9E2C-5AF5-4FBE-8824-78614A7BA4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F23A1-C2D2-40DC-9F74-FFAE0A1938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A09EF-8565-4A14-89EA-D27E07AA9E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CD568-4E04-4550-9219-9CFB7175F8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CB040-80B4-4470-904D-CDB96589A4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70D860-BACA-4819-96A7-F7639EB613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0E5425-D1D0-4D28-81AB-C8E69C6A11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A87AF3-86D1-4EA4-BF64-FEE18B648B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E6BAFD-B78F-4ACD-AC20-41FE3DF995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21E3-CCB3-45F2-AD1A-112629BC544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E37D-FB2E-4F12-ACA5-F4BD7A2EBBF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7FC6-F2E2-4CCD-A28A-94ECA87A10A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34C2-5D6E-4388-B914-5E6540DD9FB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3C76-58B5-4AB9-8D02-B2A06120B62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35ED-081F-45C6-9981-C2BEFDF0AC6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86BB-1FAA-4265-BAC5-59166D27165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080EC3-59BC-4F40-9E9F-3E8D065F34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39C7-F721-45B2-8B8B-350A97A8EB1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B77C-596A-4F76-87D0-A004F8D7D35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133F-B147-4350-AB91-7E8D1F475CB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2BB4-3D4E-4FBB-A347-1A6853FD3CD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E68D-5E52-47D1-9161-FBA78E9F96F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1999D3-1A51-4715-8F95-9F190C739C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8226DE-2F64-48D5-B526-324CF9B44E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75E4AF-A67C-41D4-A49F-4C833C9225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3E0488-0FC2-4E57-93C3-578974DD5D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060CA4-DE93-45CC-B066-578A063827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8FBE6C-1F6F-4D4F-AF7E-ADA6F0592B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7D3888-24D4-4245-9325-2D8050DF80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70C61-6140-4508-9282-9466F5213BE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FA583-9F83-4F86-832F-462588A3CA9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Quality Control: 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Molecular Diagnostic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7A0D-231C-42AC-ACC7-810E1336514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99791-0326-444D-8F49-813ED5DFDA5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Negative resul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51" name="Picture 3" descr=""/>
          <p:cNvPicPr/>
          <p:nvPr/>
        </p:nvPicPr>
        <p:blipFill>
          <a:blip r:embed="rId1"/>
          <a:stretch/>
        </p:blipFill>
        <p:spPr>
          <a:xfrm>
            <a:off x="469800" y="1676520"/>
            <a:ext cx="820260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98424-F79D-4025-8DE8-9D03EED7CF5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55C5D-3C02-4B62-A938-231EB59F4CA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isks with 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st RT-PCR is still done as “in-house” or “home-brew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imers are not necessarily optimized to t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sitive controls are “in-hous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gative controls are “in-hous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ation of tests need to be done with cau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3E78FB-675E-4064-A0A7-45050934B4E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E68CB-D0F9-43F0-A08D-80846122FFA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verview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Sample Collection, Transport, and Process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intain Nucleic acid integrity through these proces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Contamination Contro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tablish a unidirectional work flow from a DNA-free area for reagent preparation, to a sample processing area, to area where amplification and detection occu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Positive and Negative Contro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Reference: CLSI MM3-A (Molecular Diagnostic Methods for Infectious Diseas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5FAC89-9FBE-4AAB-8113-7CE703C5C02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4F414-A9B2-46B6-9A3A-E616BD86324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: 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olecular Diagnostic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7" name="Picture 3" descr=""/>
          <p:cNvPicPr/>
          <p:nvPr/>
        </p:nvPicPr>
        <p:blipFill>
          <a:blip r:embed="rId1"/>
          <a:stretch/>
        </p:blipFill>
        <p:spPr>
          <a:xfrm>
            <a:off x="884160" y="1676520"/>
            <a:ext cx="73738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85445B-A168-405A-BDAC-220BF7122DF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D0F61-92F7-46B9-AD3B-7A0D71BE305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" descr=""/>
          <p:cNvPicPr/>
          <p:nvPr/>
        </p:nvPicPr>
        <p:blipFill>
          <a:blip r:embed="rId1"/>
          <a:stretch/>
        </p:blipFill>
        <p:spPr>
          <a:xfrm>
            <a:off x="2057400" y="1066680"/>
            <a:ext cx="4821120" cy="5211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D3E795-454F-406A-B4CC-95C06A947FE8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3B5E6-9C2C-48DF-A972-2D7791EBC77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al Time 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Oval 3"/>
          <p:cNvSpPr/>
          <p:nvPr/>
        </p:nvSpPr>
        <p:spPr>
          <a:xfrm>
            <a:off x="457200" y="1676520"/>
            <a:ext cx="1143000" cy="609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533520" y="3124080"/>
            <a:ext cx="99036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PRI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5"/>
          <p:cNvSpPr/>
          <p:nvPr/>
        </p:nvSpPr>
        <p:spPr>
          <a:xfrm>
            <a:off x="685800" y="2362320"/>
            <a:ext cx="2895480" cy="609480"/>
          </a:xfrm>
          <a:prstGeom prst="rightArrow">
            <a:avLst>
              <a:gd name="adj1" fmla="val 50000"/>
              <a:gd name="adj2" fmla="val 118768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Taq polymer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6"/>
          <p:cNvSpPr/>
          <p:nvPr/>
        </p:nvSpPr>
        <p:spPr>
          <a:xfrm>
            <a:off x="3733920" y="2209680"/>
            <a:ext cx="1447560" cy="91440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mplified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Target 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7"/>
          <p:cNvSpPr/>
          <p:nvPr/>
        </p:nvSpPr>
        <p:spPr>
          <a:xfrm>
            <a:off x="2514600" y="3962520"/>
            <a:ext cx="3352680" cy="533160"/>
          </a:xfrm>
          <a:prstGeom prst="rightArrow">
            <a:avLst>
              <a:gd name="adj1" fmla="val 50000"/>
              <a:gd name="adj2" fmla="val 157208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SYBR 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8"/>
          <p:cNvSpPr/>
          <p:nvPr/>
        </p:nvSpPr>
        <p:spPr>
          <a:xfrm>
            <a:off x="5562720" y="2895480"/>
            <a:ext cx="3352680" cy="2438640"/>
          </a:xfrm>
          <a:prstGeom prst="irregularSeal1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Quantitati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Fluoresc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9"/>
          <p:cNvSpPr/>
          <p:nvPr/>
        </p:nvSpPr>
        <p:spPr>
          <a:xfrm>
            <a:off x="2590920" y="4495680"/>
            <a:ext cx="609480" cy="1524240"/>
          </a:xfrm>
          <a:prstGeom prst="upArrow">
            <a:avLst>
              <a:gd name="adj1" fmla="val 50000"/>
              <a:gd name="adj2" fmla="val 6252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0"/>
          <p:cNvSpPr/>
          <p:nvPr/>
        </p:nvSpPr>
        <p:spPr>
          <a:xfrm>
            <a:off x="3505320" y="4495680"/>
            <a:ext cx="609480" cy="1524240"/>
          </a:xfrm>
          <a:prstGeom prst="upArrow">
            <a:avLst>
              <a:gd name="adj1" fmla="val 50000"/>
              <a:gd name="adj2" fmla="val 6252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11"/>
          <p:cNvSpPr/>
          <p:nvPr/>
        </p:nvSpPr>
        <p:spPr>
          <a:xfrm>
            <a:off x="4495680" y="4495680"/>
            <a:ext cx="609840" cy="1524240"/>
          </a:xfrm>
          <a:prstGeom prst="upArrow">
            <a:avLst>
              <a:gd name="adj1" fmla="val 50000"/>
              <a:gd name="adj2" fmla="val 62485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A4140D-F014-4F22-9463-5F844E746F0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CA3BB-F22E-4653-8A49-5445BBE0A2C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7d"/>
                </a:solidFill>
                <a:latin typeface="Verdana"/>
              </a:rPr>
              <a:t>Amplification Re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1295280" y="1752480"/>
            <a:ext cx="6400800" cy="3733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4"/>
          <p:cNvSpPr/>
          <p:nvPr/>
        </p:nvSpPr>
        <p:spPr>
          <a:xfrm>
            <a:off x="1752480" y="2811600"/>
            <a:ext cx="5612040" cy="247176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5"/>
          <p:cNvSpPr/>
          <p:nvPr/>
        </p:nvSpPr>
        <p:spPr>
          <a:xfrm>
            <a:off x="1752480" y="5638680"/>
            <a:ext cx="5867640" cy="533520"/>
          </a:xfrm>
          <a:prstGeom prst="rightArrow">
            <a:avLst>
              <a:gd name="adj1" fmla="val 50000"/>
              <a:gd name="adj2" fmla="val 27494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Amplification /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6"/>
          <p:cNvSpPr/>
          <p:nvPr/>
        </p:nvSpPr>
        <p:spPr>
          <a:xfrm>
            <a:off x="533520" y="1828800"/>
            <a:ext cx="533160" cy="3429000"/>
          </a:xfrm>
          <a:prstGeom prst="upArrow">
            <a:avLst>
              <a:gd name="adj1" fmla="val 50000"/>
              <a:gd name="adj2" fmla="val 160787"/>
            </a:avLst>
          </a:prstGeom>
          <a:gradFill rotWithShape="0">
            <a:gsLst>
              <a:gs pos="0">
                <a:srgbClr val="00ff00"/>
              </a:gs>
              <a:gs pos="100000">
                <a:srgbClr val="00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7"/>
          <p:cNvSpPr/>
          <p:nvPr/>
        </p:nvSpPr>
        <p:spPr>
          <a:xfrm>
            <a:off x="1752480" y="5300640"/>
            <a:ext cx="5562720" cy="135000"/>
          </a:xfrm>
          <a:prstGeom prst="pie">
            <a:avLst/>
          </a:prstGeom>
          <a:noFill/>
          <a:ln w="7632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5717880" y="243828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POS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0"/>
          <p:cNvSpPr/>
          <p:nvPr/>
        </p:nvSpPr>
        <p:spPr>
          <a:xfrm>
            <a:off x="5411520" y="4724280"/>
            <a:ext cx="203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NO AMPLIFIC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798036-33A4-43BA-ADDA-D8944688E74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133F7-B215-4AFA-9510-97E30D824A1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Real Time RT-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2" name="Picture 3" descr=""/>
          <p:cNvPicPr/>
          <p:nvPr/>
        </p:nvPicPr>
        <p:blipFill>
          <a:blip r:embed="rId1"/>
          <a:stretch/>
        </p:blipFill>
        <p:spPr>
          <a:xfrm>
            <a:off x="1373040" y="1676520"/>
            <a:ext cx="639792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30BB86-5AA3-48E9-8E2D-5F1A5D208445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8CF0C-151F-4938-99E6-C86534CD9C3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A/H3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5" name="Picture 3" descr=""/>
          <p:cNvPicPr/>
          <p:nvPr/>
        </p:nvPicPr>
        <p:blipFill>
          <a:blip r:embed="rId1"/>
          <a:stretch/>
        </p:blipFill>
        <p:spPr>
          <a:xfrm>
            <a:off x="581040" y="1676520"/>
            <a:ext cx="79804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B305C3-35C7-42FF-B79E-758655DBC1E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1F06E-7452-489C-BFE1-594A0C281DE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A/H5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8" name="Picture 3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67556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5ED22A-55F1-4AF1-82E7-286E414F07E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7:02:05Z</dcterms:created>
  <dc:creator>Robin Barteluk</dc:creator>
  <dc:description/>
  <dc:language>en-US</dc:language>
  <cp:lastModifiedBy>Robin Barteluk</cp:lastModifiedBy>
  <dcterms:modified xsi:type="dcterms:W3CDTF">2008-12-02T03:54:08Z</dcterms:modified>
  <cp:revision>3</cp:revision>
  <dc:subject/>
  <dc:title>Quality Control:   Molecular Diagnostics</dc:title>
</cp:coreProperties>
</file>